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B58-328C-4073-AA82-84FA8DCB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5CA-0E43-4C84-9AF1-5135BB80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4EB-D8FC-4AA8-8089-057A34EB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9E3-EC49-4FD1-B236-20C99415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61FE-E0C2-45EB-B4E0-747B21D5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40F8-A10E-49A9-A678-9345438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C4B0-9F72-4A3A-B651-DEDF68A6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2036-9D6D-4CB1-9481-28098DC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F897-0A61-4010-967C-7A0E1556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5B06-C9D6-4B6D-860F-FD4F466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7C43-6D69-41B9-B136-C53F7B4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0C1-F5A6-43C3-BDA0-688A6D7F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9C64-1239-4023-95E5-EC117F4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7FFA-DB67-4099-BA58-C0A467EC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B435-1845-41BC-979A-6B04010A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B00-6032-48FE-AC66-A866914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A656-C698-4536-B1FA-2A1FD0FB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BBF-9C22-4BCD-AB99-25E86B77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8F0-10BD-479F-964C-619C0A6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EF2-1CE1-4246-8241-0B23A088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9FC-2F67-4BC3-89F5-84E749A4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130-162D-457A-86C1-66EE8D0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C77-353D-4104-AE3E-3B87BB0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5A5-69AB-47E1-AC7A-43E3CBA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B811-B0FD-49EB-B1DA-05726E95E69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FD5-611A-44A2-9633-8414674BAD4E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cientific Metho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8: Appl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ve we learned from this experiment or investigation that is rele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these results apply to real-life situations, or further stud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 methodology in all science, particular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steps as well as their titles may vary from one book or class to the next; however, the general idea remains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purposes of this class, we will use the following 8 step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: Problem or purpo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y you are performing an experiment or investigating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7242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: Questio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things you want to (or intend to) find out in your investig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ded to guide your research and backgrou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ep 3: Research and Background Inform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the individual research on the concept or experiment intended to provide a basis of information to st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clude specific laws or facts pertaining to the concept or experiment, or results from similar investigations and 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s that there is an understanding of the fundamental concepts prior to further purs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Hypoth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dicted outcome of what will occur; based on the known information from previou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“educated gu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2828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5: 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rimental procedure or test that is used in your invest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762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ep 6: Observations &amp; Data Collec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noticing or perceiving what is occurring in the invest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well, it includes recording these observations for later reference and pro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uably the most important of the 8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7: Analysis &amp; 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 of the experiment and how it wor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possible through the observations and data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hypothesis ver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4076640"/>
            <a:ext cx="17953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3:03:51Z</dcterms:created>
  <dc:creator>Mike Olfert</dc:creator>
  <dc:description/>
  <dc:language>en-US</dc:language>
  <cp:lastModifiedBy>Mike Olfert</cp:lastModifiedBy>
  <dcterms:modified xsi:type="dcterms:W3CDTF">2010-09-07T03:26:59Z</dcterms:modified>
  <cp:revision>2</cp:revision>
  <dc:subject/>
  <dc:title>The Scientific Method</dc:title>
</cp:coreProperties>
</file>